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5.png" ContentType="image/png"/>
  <Override PartName="/ppt/media/image10.jpeg" ContentType="image/jpeg"/>
  <Override PartName="/ppt/media/image7.gif" ContentType="image/gif"/>
  <Override PartName="/ppt/media/image8.png" ContentType="image/pn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42F-78B2-422A-8559-25E01ABE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46E-B8A0-4825-857A-CDF5BCD3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FD9-4E42-4A93-A2B9-D5CA8591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F8A-8AC8-4F15-BCAE-63A1E38F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F107A-4F4A-4FA0-9AA8-838E745E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8BF6D-5C90-421C-AF76-0B8CA268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BD428-A073-4B4D-B469-721B937B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77E87-8B5B-40B5-B134-6DAFC4BA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D4492-5D7A-4F28-946E-FF5AE107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9E154-910E-4456-BBD9-7FE530FB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B4700-E33C-4FAB-BF71-9FC503F3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E3A-781A-4EA4-A4ED-87C6DE36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BD2EA-BC35-48DC-8742-B363049A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F24D9-9098-49A1-846C-7578081C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07244-9344-40A8-A32C-82C27019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6AF0A-FCB7-4D65-8FCD-F91D3D42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68AA4-E005-4DF7-908E-D09D889E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A6C-0EBC-4C90-981B-FB7B6455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46A-5F25-4D6A-B1AF-965F09CF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CC7-46AA-4FC3-9AC5-D3FD8C28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EC8-EFDF-4CA9-95C1-69E61B5E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3E2-1671-45AA-979F-D2A70A75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D82-9B6E-491A-9C45-7B8B7711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455-AE7D-4E16-9C30-EA5B75E3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4EED-C18A-467D-A178-F2D8119168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140B-72E1-4C57-9E33-E77F3310FE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3975120" cy="5300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-720720" y="333360"/>
            <a:ext cx="9864720" cy="432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804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Полет на планету МиФ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780000" y="1916280"/>
            <a:ext cx="536400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редмет математи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столько серьезен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нужно не упускать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учая делать его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много занимательным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. Паскаль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635280" y="1557360"/>
                <a:ext cx="41767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851280" y="2857680"/>
                <a:ext cx="11523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den>
                    </m:f>
                    <m:r>
                      <m:t xml:space="preserve">≺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780000" y="4005360"/>
                <a:ext cx="1512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178440" y="977760"/>
            <a:ext cx="17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3 экипаж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96080" y="3080160"/>
            <a:ext cx="5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б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97520" y="4219920"/>
            <a:ext cx="5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948360" y="1557360"/>
                <a:ext cx="8175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72000" y="4005360"/>
                <a:ext cx="762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4484520" cy="3643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292720" y="3068640"/>
            <a:ext cx="3498840" cy="2787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324000" y="0"/>
            <a:ext cx="8820000" cy="31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ой, я непобедимый иксовый дракон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кто не может пролететь чере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и влад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282840" cy="6184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0" y="260280"/>
            <a:ext cx="482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Открой окошк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68360" y="1844640"/>
            <a:ext cx="2735280" cy="4753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164360" y="333360"/>
                <a:ext cx="314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667640" y="3357720"/>
                <a:ext cx="428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569080" cy="3024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0" y="333360"/>
            <a:ext cx="914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Уточним наши координат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5149800" y="2708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5080" y="2852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611280" y="620640"/>
            <a:ext cx="810108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ерим тест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4000" y="1989000"/>
          <a:ext cx="4319280" cy="441000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079640"/>
                <a:gridCol w="10792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ипа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ипа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ипа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4932360" y="1989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4 правильных ответа – оценка «5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3 правильных ответа – оценка «4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2 правильных ответа – оценка «3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1 правильный ответ – оценка «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0" y="26028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ГИЧЕСКИЙ КВАДРАТ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1" name=""/>
          <p:cNvSpPr/>
          <p:nvPr/>
        </p:nvSpPr>
        <p:spPr>
          <a:xfrm>
            <a:off x="3892680" y="5299200"/>
            <a:ext cx="1758960" cy="1257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47760" y="5299200"/>
            <a:ext cx="1744920" cy="1257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5299200"/>
            <a:ext cx="1752480" cy="1257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92680" y="4038480"/>
            <a:ext cx="1758960" cy="1260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47760" y="4038480"/>
            <a:ext cx="1744920" cy="1260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4038480"/>
            <a:ext cx="1752480" cy="1260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92680" y="2781360"/>
            <a:ext cx="1758960" cy="1257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47760" y="2781360"/>
            <a:ext cx="1744920" cy="1257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2781360"/>
            <a:ext cx="1752480" cy="1257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781360"/>
            <a:ext cx="52563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038480"/>
            <a:ext cx="525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5299200"/>
            <a:ext cx="525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6556320"/>
            <a:ext cx="52563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2781360"/>
            <a:ext cx="0" cy="37749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47760" y="2781360"/>
            <a:ext cx="0" cy="3774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92680" y="2781360"/>
            <a:ext cx="0" cy="3774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2781360"/>
            <a:ext cx="0" cy="37749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00000" y="2781360"/>
                <a:ext cx="61920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500720" y="2781360"/>
                <a:ext cx="6094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971640" y="5300640"/>
                <a:ext cx="61920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627280" y="5300640"/>
                <a:ext cx="61920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427640" y="5300640"/>
                <a:ext cx="62856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700360" y="4005360"/>
                <a:ext cx="61920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00000" y="4005360"/>
                <a:ext cx="62892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427640" y="4005360"/>
                <a:ext cx="61920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771640" y="2781360"/>
                <a:ext cx="61920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 txBox="1"/>
          <p:nvPr/>
        </p:nvSpPr>
        <p:spPr>
          <a:xfrm>
            <a:off x="250920" y="1484280"/>
            <a:ext cx="511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гическое число -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651640" y="1341360"/>
                <a:ext cx="69516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516720" y="1341360"/>
                <a:ext cx="85716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5929200" y="2421000"/>
            <a:ext cx="32148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840200" y="2100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60948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cc"/>
                </a:solidFill>
                <a:uFillTx/>
                <a:latin typeface="Arial"/>
              </a:rPr>
              <a:t>Учен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Ак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Внима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Ум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Стара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Дисциплинирова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60948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cc"/>
                </a:solidFill>
                <a:uFillTx/>
                <a:latin typeface="Arial"/>
              </a:rPr>
              <a:t>У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Интерес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Познава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Развива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Воспитыва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Разнообраз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1484280"/>
            <a:ext cx="874872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Сложение и вычит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мешанных чисел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180000" y="112536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640" y="189000"/>
            <a:ext cx="27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02.2008г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0" y="476280"/>
                <a:ext cx="914400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68360" y="2492280"/>
            <a:ext cx="1797120" cy="2017800"/>
          </a:xfrm>
          <a:prstGeom prst="downArrowCallout">
            <a:avLst>
              <a:gd name="adj1" fmla="val 25002"/>
              <a:gd name="adj2" fmla="val 25000"/>
              <a:gd name="adj3" fmla="val 18713"/>
              <a:gd name="adj4" fmla="val 6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кип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492280"/>
            <a:ext cx="1796760" cy="2017800"/>
          </a:xfrm>
          <a:prstGeom prst="downArrowCallout">
            <a:avLst>
              <a:gd name="adj1" fmla="val 25002"/>
              <a:gd name="adj2" fmla="val 25000"/>
              <a:gd name="adj3" fmla="val 18717"/>
              <a:gd name="adj4" fmla="val 6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кип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20000" y="2492280"/>
            <a:ext cx="1797120" cy="2017800"/>
          </a:xfrm>
          <a:prstGeom prst="downArrowCallout">
            <a:avLst>
              <a:gd name="adj1" fmla="val 25002"/>
              <a:gd name="adj2" fmla="val 25000"/>
              <a:gd name="adj3" fmla="val 18713"/>
              <a:gd name="adj4" fmla="val 6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кип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581360"/>
            <a:ext cx="2592360" cy="1008360"/>
          </a:xfrm>
          <a:prstGeom prst="flowChartTerminator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АВИ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РО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4581360"/>
            <a:ext cx="3024000" cy="1008360"/>
          </a:xfrm>
          <a:prstGeom prst="flowChartTerminator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ПРАВИ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РО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1640" y="4581360"/>
            <a:ext cx="2592360" cy="1008360"/>
          </a:xfrm>
          <a:prstGeom prst="flowChartTerminator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МЕШ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ИС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0920" y="5734080"/>
                <a:ext cx="18730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276720" y="5661000"/>
                <a:ext cx="295272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732720" y="5661000"/>
                <a:ext cx="2266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68360" y="0"/>
            <a:ext cx="7794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ка "блока памяти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640" y="1341360"/>
            <a:ext cx="22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экипаж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0" y="1842840"/>
            <a:ext cx="926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ff66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Приведите пример обыкновенной дроби со знаменателем 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66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Что мы называем смешанным числ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66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Как неправильную дробь перевести в смешанное числ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720" y="2997360"/>
            <a:ext cx="22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экипаж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0" y="3498480"/>
            <a:ext cx="875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cc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Какая дробь называется правильн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33cc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Какая дробь называется неправильн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33cc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Как из смешанного числа получить неправильную дроб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6360" y="4724280"/>
            <a:ext cx="22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экипаж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3600" y="5298840"/>
            <a:ext cx="86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Как вычесть две дроби с одинаковыми знаменателя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Как сложить две дроби с одинаковыми знаменателя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Как сложить (вычесть) два смешанных чис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333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12536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сса третьей степени ракеты-носителя космического корабля         кг, м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ой -         кг, а первой –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477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г. Какова масса всего корабля? Сколько тонн топлива необходимо для полета, если оно      составляет  массы кораб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932360" y="1628640"/>
                <a:ext cx="6573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8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268360" y="2452680"/>
                <a:ext cx="811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0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384280" y="4076640"/>
                <a:ext cx="5461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 txBox="1"/>
          <p:nvPr/>
        </p:nvSpPr>
        <p:spPr>
          <a:xfrm>
            <a:off x="539640" y="189000"/>
            <a:ext cx="806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ычислительный эксперим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549360"/>
            <a:ext cx="8497800" cy="143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5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я для свободной минутки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-456480" y="1341720"/>
            <a:ext cx="702360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2720" rIns="358560" tIns="342720" bIns="342720" anchor="ctr">
            <a:spAutoFit/>
          </a:bodyPr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апишите, пр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значения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дроб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156360" y="1557360"/>
                <a:ext cx="5810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6694560" y="169848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еправи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546840" y="3283560"/>
            <a:ext cx="72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апишите при каких  значения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дроб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084720" y="2997360"/>
                <a:ext cx="5623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714360" y="32835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ильна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600" y="4507200"/>
            <a:ext cx="788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 Запишите число 3 в виде дроби со знаменателе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 1,     б)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844640"/>
            <a:ext cx="7416720" cy="45086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0" lang="en-US" sz="4900" spc="-1" strike="noStrike">
                <a:solidFill>
                  <a:srgbClr val="440ef2"/>
                </a:solidFill>
                <a:latin typeface="Arial"/>
              </a:rPr>
              <a:t>Вы, наверное, устали? Настало время отдыхать.</a:t>
            </a:r>
            <a:br>
              <a:rPr sz="4900"/>
            </a:br>
            <a:r>
              <a:rPr b="0" lang="en-US" sz="4900" spc="-1" strike="noStrike">
                <a:solidFill>
                  <a:srgbClr val="440ef2"/>
                </a:solidFill>
                <a:latin typeface="Arial"/>
              </a:rPr>
              <a:t>Предлагаю усталость</a:t>
            </a:r>
            <a:br>
              <a:rPr sz="4900"/>
            </a:br>
            <a:r>
              <a:rPr b="0" lang="en-US" sz="4900" spc="-1" strike="noStrike">
                <a:solidFill>
                  <a:srgbClr val="440ef2"/>
                </a:solidFill>
                <a:latin typeface="Arial"/>
              </a:rPr>
              <a:t>Физкультминуткою снять.</a:t>
            </a:r>
            <a:r>
              <a:rPr b="0" lang="en-US" sz="33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227640" y="549360"/>
            <a:ext cx="3168720" cy="2492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635280" y="-316080"/>
            <a:ext cx="1526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5640" y="907920"/>
            <a:ext cx="7632720" cy="0"/>
          </a:xfrm>
          <a:prstGeom prst="line">
            <a:avLst/>
          </a:prstGeom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2001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8101080" y="602136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532720" y="602136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79840" y="3230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617480"/>
            <a:ext cx="9144000" cy="43603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Verdana"/>
              </a:rPr>
              <a:t>Раз - подняться, потянуть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Verdana"/>
              </a:rPr>
              <a:t>Два - согнуться и присес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Verdana"/>
              </a:rPr>
              <a:t>Три - в ладоши три хлопка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Verdana"/>
              </a:rPr>
              <a:t>Головою три ки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Verdana"/>
              </a:rPr>
              <a:t>На четыре руки шир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Verdana"/>
              </a:rPr>
              <a:t>Пять - руками помаха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Verdana"/>
              </a:rPr>
              <a:t>Шесть - за парту тихо сесть.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572240" y="189000"/>
            <a:ext cx="1571760" cy="1628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88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68360" y="2349360"/>
                <a:ext cx="3456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39640" y="3573360"/>
                <a:ext cx="18003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7</m:t>
                        </m:r>
                      </m:den>
                    </m:f>
                    <m:r>
                      <m:t xml:space="preserve">≻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68360" y="4797360"/>
                <a:ext cx="17287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-21960" y="1771920"/>
            <a:ext cx="1532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1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экипаж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9720" y="385956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б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8280" y="509652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71640" y="260280"/>
            <a:ext cx="7488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Устранить ошибку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148360" y="2492280"/>
                <a:ext cx="38052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364000" y="3500280"/>
                <a:ext cx="9525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≺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219640" y="4714920"/>
                <a:ext cx="158436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65320" y="1843560"/>
            <a:ext cx="1561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экипаж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36080" y="3788280"/>
            <a:ext cx="5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б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35000" y="50122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073320" y="2276640"/>
                <a:ext cx="959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187280" y="393372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8028000" y="2492280"/>
                <a:ext cx="8510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587920" y="3860640"/>
                <a:ext cx="3398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796000" y="5084640"/>
                <a:ext cx="433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20:17:44Z</dcterms:created>
  <dc:creator>1ё</dc:creator>
  <dc:description/>
  <dc:language>en-US</dc:language>
  <cp:lastModifiedBy>1ё</cp:lastModifiedBy>
  <dcterms:modified xsi:type="dcterms:W3CDTF">2008-02-04T15:46:55Z</dcterms:modified>
  <cp:revision>13</cp:revision>
  <dc:subject/>
  <dc:title>Слайд 1</dc:title>
</cp:coreProperties>
</file>